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D5C-B761-4558-B5BE-9B037A66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F0E-F538-4456-8E14-15F42CD0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E80-9737-4EC2-BBD1-3D4C6619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1E7-D7DA-441F-AA6E-C7F0A187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606-45B6-4758-BC7A-6AE7F1A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695-47DB-49A1-944D-16B6944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D2F-0FA7-49EB-9F9B-3CEA075E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625-C81B-40B4-8DED-2352561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360-6935-4EDB-A50C-EE89237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75A-1859-4D11-A662-E639BB4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B1F-49E1-4690-9CA1-E980D22D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F7C-321C-4B01-8B51-E9758B04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" name="dh015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2286000" cy="492120"/>
          </a:xfrm>
          <a:prstGeom prst="rect">
            <a:avLst/>
          </a:prstGeom>
          <a:ln w="0">
            <a:noFill/>
          </a:ln>
        </p:spPr>
      </p:pic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078D-F7E8-431F-9C10-FA46C5375BE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286000"/>
            <a:ext cx="6340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 Server 200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简明教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李存斌  主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28600"/>
            <a:ext cx="69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数据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简明教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目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360" y="19807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SQL Server 2000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是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Microsoft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公司最新推出的大型数据库管理系统，它建立在成熟而强大的关系模型基础上，可以很好地支持客户机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服务器网络模式，能够满足各种类型的企事业单位对构建网络数据库的需求，并且在易用性、可扩展性、可靠性以及数据仓库等方面确立了世界领先的地位，是目前各级各类学校学习大型数据库管理系统的首选教材。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03228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5280" y="16668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本教材共分九章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关系数据库简介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叙述了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ansact-SQ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语言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服务器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数据库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数据库对象的操作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权限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代理服务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复制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转换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5280" y="16668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教材的编著过程中注重循序渐进、由浅入深、理论与实践相结合，书中的文字说明、图形显示、程序语句、思考题和上机练习题比例恰当，既便于教师教学、又便于学生学习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7360" y="146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本教材特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本书可作为各大学、专科院校本专科生的教科书，也可作为高职高专学校在校生的教科书，同时也适合具有同等文化程度的读者自学之用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213372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96080" y="146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适用范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第一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43434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  回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2:43:44Z</dcterms:created>
  <dc:creator>haier</dc:creator>
  <dc:description/>
  <dc:language>en-US</dc:language>
  <cp:lastModifiedBy>lcb</cp:lastModifiedBy>
  <dcterms:modified xsi:type="dcterms:W3CDTF">2001-08-19T07:18:40Z</dcterms:modified>
  <cp:revision>11</cp:revision>
  <dc:subject/>
  <dc:title>PowerPoint 演示文稿</dc:title>
</cp:coreProperties>
</file>